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5.wmf" ContentType="image/x-wmf"/>
  <Override PartName="/ppt/media/image11.wmf" ContentType="image/x-wmf"/>
  <Override PartName="/ppt/media/image54.png" ContentType="image/png"/>
  <Override PartName="/ppt/media/image5.jpeg" ContentType="image/jpeg"/>
  <Override PartName="/ppt/media/image61.png" ContentType="image/png"/>
  <Override PartName="/ppt/media/image16.wmf" ContentType="image/x-wmf"/>
  <Override PartName="/ppt/media/image59.png" ContentType="image/png"/>
  <Override PartName="/ppt/media/image22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66.wmf" ContentType="image/x-wmf"/>
  <Override PartName="/ppt/media/image65.wmf" ContentType="image/x-wmf"/>
  <Override PartName="/ppt/media/image62.png" ContentType="image/png"/>
  <Override PartName="/ppt/media/image63.wmf" ContentType="image/x-wmf"/>
  <Override PartName="/ppt/media/image23.png" ContentType="image/png"/>
  <Override PartName="/ppt/media/image26.wmf" ContentType="image/x-wmf"/>
  <Override PartName="/ppt/media/image24.wmf" ContentType="image/x-wmf"/>
  <Override PartName="/ppt/media/image64.wmf" ContentType="image/x-wmf"/>
  <Override PartName="/ppt/media/image27.wmf" ContentType="image/x-wmf"/>
  <Override PartName="/ppt/media/image25.wmf" ContentType="image/x-wmf"/>
  <Override PartName="/ppt/media/image60.png" ContentType="image/png"/>
  <Override PartName="/ppt/media/image57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.png" ContentType="image/png"/>
  <Override PartName="/ppt/media/image8.wmf" ContentType="image/x-wmf"/>
  <Override PartName="/ppt/media/image40.png" ContentType="image/png"/>
  <Override PartName="/ppt/media/image53.png" ContentType="image/png"/>
  <Override PartName="/ppt/media/image10.wmf" ContentType="image/x-wmf"/>
  <Override PartName="/ppt/media/image7.wmf" ContentType="image/x-wmf"/>
  <Override PartName="/ppt/media/image55.png" ContentType="image/png"/>
  <Override PartName="/ppt/media/image12.wmf" ContentType="image/x-wmf"/>
  <Override PartName="/ppt/media/image4.jpeg" ContentType="image/jpeg"/>
  <Override PartName="/ppt/media/image51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28.png" ContentType="image/png"/>
  <Override PartName="/ppt/media/image52.png" ContentType="image/png"/>
  <Override PartName="/ppt/media/image3.png" ContentType="image/png"/>
  <Override PartName="/ppt/media/image30.wmf" ContentType="image/x-wmf"/>
  <Override PartName="/ppt/media/image31.png" ContentType="image/png"/>
  <Override PartName="/ppt/media/image33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B13-F9CE-4EAB-9076-D727341A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ze the problem and state it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th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, there is a ball of fire in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2FC-8D96-495F-B9D8-294AC97E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3F3-6BDF-49E9-9861-361C5A0F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90F-3295-47D7-AA44-B3F3078E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891-007C-4695-97EE-7CEB0F83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5476-2E28-491C-B198-E5D0223F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6CDF-A284-49AD-9D2F-87F4C9F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EE3B-B8D2-48B6-8F90-E49C3C22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9CC5-7A2A-4F1C-824D-EB2F0F9D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A8F-EAFA-4DDA-B8DB-1AF3347F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F53E-CD2D-49DD-B16B-5ABCC2B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7679-95EF-42D0-89C3-D3C3E5B4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B03-EA43-4D1E-85A9-1FD9BE1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869D-8FC2-4E83-9DCE-8304949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198-1F6C-4887-A9B0-D8D83EA9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F70-D0A1-4BCA-9B4B-F941EA8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FA3-FC06-400F-80A4-6CE17A63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0FA2-E498-4F3D-9771-D139DFC5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1E5D-0BC7-4DCF-AE34-0833416E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01C5-0C2A-486F-A390-ECBB3B9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C21F-599B-42E6-AA4C-E2131673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DE61-9F16-40A1-89BC-337D5666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4694-D181-47AF-A32D-E1CBC7A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B80-0D82-4179-B235-D0458EA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4A22B-45B9-4343-8AE9-97C486DF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47F4-989C-4D75-B05B-D9089B1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E8BF-2643-4626-88FF-E659FBA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901E7-3375-49D8-AACE-96B8F1C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90F3-FBAC-44F5-BC91-5A8A9CB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BE5A-6E47-4026-B228-082F57E1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B330-7E51-45BA-9EE1-BF236DEC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BE25-EE28-4DB5-A7E8-0985D393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F512-6B38-4903-8EC2-60D973C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4E8CC-AB8E-4BD0-9DF1-762E8FD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957-11ED-4548-9213-A0FE9B3F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2B0C-6005-49BB-AFB3-06F8E69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27E1-8AFC-41B8-998A-EEDC407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CD4B-B781-49AF-B240-E99A4CF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3262-A45A-4FED-90CC-14CD586A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8BAC-17C3-48AD-9198-C63DBF4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3520-F3F3-472B-8FF2-CEC944FB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268C-7277-4C31-8EE8-03FF174C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8C73-4CAB-46A1-B2DC-FBD984F0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569A-9774-4CF3-A65E-28371BC3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D05-5C99-4BF1-93EF-749B11A5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22B-EC0E-4173-A6DD-4AB2F62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876-9989-4CC8-822E-88BED6A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F9B-61B4-40AA-91A2-76B0904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6FF-49BD-4112-96DF-CE14F41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773C-24C3-4CB4-A3C6-34817E86A95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7AD0-015C-45E5-847F-3EB67450A1B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C897-B052-4068-B385-48E9D7CBB67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517A-08D4-4642-A9F1-921519C55A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82520" y="822240"/>
            <a:ext cx="86868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асену концентрацију 37% раствора сумпорне киселине ако je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 тог раствора1280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=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L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82520" y="3382920"/>
            <a:ext cx="9066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сена концентрација раствор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je 2 mg/c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рну концентрацију раств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mg NaCl =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NaC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00 mg NaCl = 2 g NaC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= X mola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3148 mol/dm</a:t>
            </a:r>
            <a:r>
              <a:rPr b="0" lang="sr-Latn-CS" sz="25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268360" y="1087560"/>
            <a:ext cx="48229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82520" y="4937040"/>
            <a:ext cx="86868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молова растворене супстанце (В) и масе растварача (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1279440" y="2205000"/>
            <a:ext cx="648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82520" y="1484280"/>
            <a:ext cx="8686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 67% раствора сахароз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33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,93 mol/kg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82520" y="974880"/>
            <a:ext cx="868680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ларитет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0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85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,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k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76,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8 mol/kg 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,10 g/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6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 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908000" y="1197000"/>
            <a:ext cx="5759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концентрациј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79280" y="2781360"/>
            <a:ext cx="85694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еквивалената растворене супстанце у </a:t>
            </a:r>
            <a:br>
              <a:rPr sz="2800"/>
            </a:b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440" y="1125360"/>
            <a:ext cx="28083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82520" y="4754520"/>
            <a:ext cx="87631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а ф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количине растворене супстанце или растварача и укупне количине свих супстанци у раст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817720" y="3075120"/>
            <a:ext cx="49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вор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од растварача (А) и растворене супстанце (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182520" y="1751040"/>
            <a:ext cx="7583400" cy="219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2"/>
          <a:stretch/>
        </p:blipFill>
        <p:spPr>
          <a:xfrm>
            <a:off x="5969160" y="3782880"/>
            <a:ext cx="26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82520" y="731880"/>
            <a:ext cx="8677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 молски удео растворене супстанце у 67% раствору сахароз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+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67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196 mol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8 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3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,83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82520" y="4846680"/>
            <a:ext cx="63230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7909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80240" cy="2193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2"/>
          <p:cNvSpPr/>
          <p:nvPr/>
        </p:nvSpPr>
        <p:spPr>
          <a:xfrm>
            <a:off x="182520" y="4664160"/>
            <a:ext cx="86900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m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милион 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719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b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08600" cy="2193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82520" y="4869000"/>
            <a:ext cx="869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b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</a:t>
            </a: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једну милијарду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663480" y="1628640"/>
            <a:ext cx="7543800" cy="2895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274680" y="4846680"/>
            <a:ext cx="7954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74640" y="615168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ачност аналитичке ваге износи  ± 0,1 m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5688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нтитативни састав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26656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 удео (процентна концентрациј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р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л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ски у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те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82160" y="1773360"/>
            <a:ext cx="896148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остаје константна, мења се запремина раств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лова пре разблажења = број молова после разблажењ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626920" y="1125000"/>
            <a:ext cx="4248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блаживање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82520" y="3860640"/>
            <a:ext cx="87105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концентрацију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добијен меш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3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7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а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2340000" y="98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и концент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82520" y="1828800"/>
            <a:ext cx="536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 (&lt; 0,1 mol/L) – интеракције између честица растворене супстанц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емарљ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82520" y="3932280"/>
            <a:ext cx="550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 (&gt;</a:t>
            </a:r>
            <a:r>
              <a:rPr b="0" lang="sr-Latn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mol/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присут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 између честица растворене супстанце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"/>
          <p:cNvGraphicFramePr/>
          <p:nvPr/>
        </p:nvGraphicFramePr>
        <p:xfrm>
          <a:off x="5668920" y="2930400"/>
          <a:ext cx="323712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8920" y="2930400"/>
                    <a:ext cx="323712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Box 3"/>
          <p:cNvSpPr/>
          <p:nvPr/>
        </p:nvSpPr>
        <p:spPr>
          <a:xfrm>
            <a:off x="5578560" y="1828800"/>
            <a:ext cx="3473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а се дешава у концентрованим растворима јаких електролит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6035760" y="6021360"/>
            <a:ext cx="314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атмосф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250920" y="2637000"/>
            <a:ext cx="669744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е изоловани јони у раст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јон је окружен супротно наелектрисани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у покретни у раствору тј. могу изаћи и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е и ући у другу јонску атмо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124000" y="1197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baj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kel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а теорија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2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C:\Users\Maca\Desktop\debaj.png"/>
          <p:cNvPicPr/>
          <p:nvPr/>
        </p:nvPicPr>
        <p:blipFill>
          <a:blip r:embed="rId1"/>
          <a:stretch/>
        </p:blipFill>
        <p:spPr>
          <a:xfrm>
            <a:off x="6948360" y="2060640"/>
            <a:ext cx="1943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5"/>
          <p:cNvSpPr/>
          <p:nvPr/>
        </p:nvSpPr>
        <p:spPr>
          <a:xfrm>
            <a:off x="182520" y="1893960"/>
            <a:ext cx="88534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7.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ewis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о појам активитет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 (а) је ефективна концентрациј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Box 2"/>
          <p:cNvGrpSpPr/>
          <p:nvPr/>
        </p:nvGrpSpPr>
        <p:grpSpPr>
          <a:xfrm>
            <a:off x="244440" y="3260880"/>
            <a:ext cx="2419560" cy="969840"/>
            <a:chOff x="244440" y="3260880"/>
            <a:chExt cx="2419560" cy="969840"/>
          </a:xfrm>
        </p:grpSpPr>
        <p:pic>
          <p:nvPicPr>
            <p:cNvPr id="270" name="TextBox 2" descr=""/>
            <p:cNvPicPr/>
            <p:nvPr/>
          </p:nvPicPr>
          <p:blipFill>
            <a:blip r:embed="rId1"/>
            <a:stretch/>
          </p:blipFill>
          <p:spPr>
            <a:xfrm>
              <a:off x="244440" y="3260880"/>
              <a:ext cx="24195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7200" y="3357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 </a:t>
              </a:r>
              <a:r>
                <a:rPr b="1" lang="sr-Latn-CS" sz="3200" spc="-1" strike="noStrike" baseline="30000">
                  <a:solidFill>
                    <a:srgbClr val="01181f"/>
                  </a:solidFill>
                  <a:latin typeface="Times New Roman"/>
                  <a:ea typeface="Times New Roman"/>
                </a:rPr>
                <a:t>.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3"/>
          <p:cNvGrpSpPr/>
          <p:nvPr/>
        </p:nvGrpSpPr>
        <p:grpSpPr>
          <a:xfrm>
            <a:off x="244440" y="3902040"/>
            <a:ext cx="7558200" cy="1468440"/>
            <a:chOff x="244440" y="3902040"/>
            <a:chExt cx="7558200" cy="1468440"/>
          </a:xfrm>
        </p:grpSpPr>
        <p:pic>
          <p:nvPicPr>
            <p:cNvPr id="273" name="TextBox 3" descr=""/>
            <p:cNvPicPr/>
            <p:nvPr/>
          </p:nvPicPr>
          <p:blipFill>
            <a:blip r:embed="rId2"/>
            <a:stretch/>
          </p:blipFill>
          <p:spPr>
            <a:xfrm>
              <a:off x="244440" y="3902040"/>
              <a:ext cx="75582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7200" y="4005360"/>
              <a:ext cx="7286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c  - 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моларна концентрац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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фактор (коефицијент) активите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4"/>
          <p:cNvGrpSpPr/>
          <p:nvPr/>
        </p:nvGrpSpPr>
        <p:grpSpPr>
          <a:xfrm>
            <a:off x="274680" y="5126040"/>
            <a:ext cx="8130960" cy="873000"/>
            <a:chOff x="274680" y="5126040"/>
            <a:chExt cx="8130960" cy="873000"/>
          </a:xfrm>
        </p:grpSpPr>
        <p:pic>
          <p:nvPicPr>
            <p:cNvPr id="276" name="TextBox 4" descr=""/>
            <p:cNvPicPr/>
            <p:nvPr/>
          </p:nvPicPr>
          <p:blipFill>
            <a:blip r:embed="rId3"/>
            <a:stretch/>
          </p:blipFill>
          <p:spPr>
            <a:xfrm>
              <a:off x="274680" y="5126040"/>
              <a:ext cx="81309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5210280"/>
              <a:ext cx="788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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(идеалан раствор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5"/>
          <p:cNvGrpSpPr/>
          <p:nvPr/>
        </p:nvGrpSpPr>
        <p:grpSpPr>
          <a:xfrm>
            <a:off x="274680" y="5791320"/>
            <a:ext cx="8137440" cy="871560"/>
            <a:chOff x="274680" y="5791320"/>
            <a:chExt cx="8137440" cy="871560"/>
          </a:xfrm>
        </p:grpSpPr>
        <p:pic>
          <p:nvPicPr>
            <p:cNvPr id="279" name="TextBox 5" descr=""/>
            <p:cNvPicPr/>
            <p:nvPr/>
          </p:nvPicPr>
          <p:blipFill>
            <a:blip r:embed="rId4"/>
            <a:stretch/>
          </p:blipFill>
          <p:spPr>
            <a:xfrm>
              <a:off x="274680" y="5791320"/>
              <a:ext cx="8137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57200" y="5877000"/>
              <a:ext cx="78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&lt; 1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; </a:t>
              </a: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 &lt;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раствор електроли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та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3125520" y="10969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82520" y="2276640"/>
            <a:ext cx="8496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електрисања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и наелектрисања свих јона присутних у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(јонска сила раствора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65040" y="5715000"/>
            <a:ext cx="6367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≤ 0,001 mol/d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је разблаж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82520" y="1197000"/>
            <a:ext cx="86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-Hikel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е може се израчунати фактор (коефицијент) активитета јо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979640" y="4543560"/>
            <a:ext cx="4392720" cy="973080"/>
            <a:chOff x="1979640" y="4543560"/>
            <a:chExt cx="4392720" cy="973080"/>
          </a:xfrm>
        </p:grpSpPr>
        <p:graphicFrame>
          <p:nvGraphicFramePr>
            <p:cNvPr id="286" name="Object 2"/>
            <p:cNvGraphicFramePr/>
            <p:nvPr/>
          </p:nvGraphicFramePr>
          <p:xfrm>
            <a:off x="1979640" y="4543560"/>
            <a:ext cx="4392720" cy="97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4543560"/>
                      <a:ext cx="439272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Box 5"/>
            <p:cNvSpPr/>
            <p:nvPr/>
          </p:nvSpPr>
          <p:spPr>
            <a:xfrm>
              <a:off x="3714840" y="4584240"/>
              <a:ext cx="3250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Notched Right Arrow 5"/>
          <p:cNvSpPr/>
          <p:nvPr/>
        </p:nvSpPr>
        <p:spPr>
          <a:xfrm>
            <a:off x="3059280" y="5950080"/>
            <a:ext cx="366480" cy="137880"/>
          </a:xfrm>
          <a:custGeom>
            <a:avLst/>
            <a:gdLst>
              <a:gd name="textAreaLeft" fmla="*/ 34200 w 366480"/>
              <a:gd name="textAreaRight" fmla="*/ 332280 w 366480"/>
              <a:gd name="textAreaTop" fmla="*/ 34560 h 137880"/>
              <a:gd name="textAreaBottom" fmla="*/ 103680 h 13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Notched Right Arrow 5"/>
          <p:cNvSpPr/>
          <p:nvPr/>
        </p:nvSpPr>
        <p:spPr>
          <a:xfrm>
            <a:off x="1258920" y="638172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1835280" y="1189080"/>
            <a:ext cx="5616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сила (јачина) раствор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87200" y="2176560"/>
            <a:ext cx="8750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си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једнака је половини збира производа концентрације сваког јона и квадрата његовог наелектриса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82520" y="5013360"/>
            <a:ext cx="7774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у раствору (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лектрисање јона у раст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189080" y="3657600"/>
            <a:ext cx="6253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274680" y="4437000"/>
            <a:ext cx="792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A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3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1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82520" y="5121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1,8  + 1,2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82520" y="1096920"/>
            <a:ext cx="864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рачунај јонску силу 0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82520" y="2938320"/>
            <a:ext cx="81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8  + 0,4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6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57200" y="2316240"/>
            <a:ext cx="5832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Cl</a:t>
            </a:r>
            <a:r>
              <a:rPr b="0" lang="sr-Latn-CS" sz="28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82520" y="3641760"/>
            <a:ext cx="8497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ј јонску силу 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771640" y="122076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 активитет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82520" y="2103480"/>
            <a:ext cx="88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ke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ски су израчунали зависност  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 актив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од његовог наелектрисања и јонске јач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5029200" y="3879720"/>
            <a:ext cx="36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z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наелектрисање 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јонска јачина</a:t>
            </a:r>
            <a:r>
              <a:rPr b="0" lang="sr-R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182520" y="5253120"/>
            <a:ext cx="842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блаженим растворима (I ≤ 0,01  mol/L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12"/>
          <p:cNvGraphicFramePr/>
          <p:nvPr/>
        </p:nvGraphicFramePr>
        <p:xfrm>
          <a:off x="1006560" y="3716280"/>
          <a:ext cx="33274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3716280"/>
                    <a:ext cx="33274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3"/>
          <p:cNvGraphicFramePr/>
          <p:nvPr/>
        </p:nvGraphicFramePr>
        <p:xfrm>
          <a:off x="1279440" y="5851440"/>
          <a:ext cx="340704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5851440"/>
                    <a:ext cx="34070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182520" y="992160"/>
            <a:ext cx="8893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-19080" y="3092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½ (0,01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0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04  + 0,04) = 0,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206960" y="4206960"/>
            <a:ext cx="23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0,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74680" y="5211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48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48 mol/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7"/>
          <p:cNvGraphicFramePr/>
          <p:nvPr/>
        </p:nvGraphicFramePr>
        <p:xfrm>
          <a:off x="274680" y="4022640"/>
          <a:ext cx="29113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4022640"/>
                    <a:ext cx="2911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"/>
          <p:cNvSpPr/>
          <p:nvPr/>
        </p:nvSpPr>
        <p:spPr>
          <a:xfrm>
            <a:off x="182520" y="2427120"/>
            <a:ext cx="737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Diagram 4" descr=""/>
          <p:cNvPicPr/>
          <p:nvPr/>
        </p:nvPicPr>
        <p:blipFill>
          <a:blip r:embed="rId1"/>
          <a:stretch/>
        </p:blipFill>
        <p:spPr>
          <a:xfrm>
            <a:off x="1390680" y="1847880"/>
            <a:ext cx="6119640" cy="4059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"/>
          <p:cNvSpPr/>
          <p:nvPr/>
        </p:nvSpPr>
        <p:spPr>
          <a:xfrm>
            <a:off x="2687760" y="1125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3143160" y="118908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 (</a:t>
            </a:r>
            <a:r>
              <a:rPr b="1" i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82520" y="5029200"/>
            <a:ext cx="845820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центна 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грама растворене супстанце у 100 </a:t>
            </a:r>
            <a:r>
              <a:rPr b="1" lang="en-U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457200" y="2011320"/>
            <a:ext cx="758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ounded Rectangle 4"/>
          <p:cNvGrpSpPr/>
          <p:nvPr/>
        </p:nvGrpSpPr>
        <p:grpSpPr>
          <a:xfrm>
            <a:off x="304920" y="1122480"/>
            <a:ext cx="4236840" cy="1296720"/>
            <a:chOff x="304920" y="1122480"/>
            <a:chExt cx="4236840" cy="1296720"/>
          </a:xfrm>
        </p:grpSpPr>
        <p:pic>
          <p:nvPicPr>
            <p:cNvPr id="31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04920" y="1122480"/>
              <a:ext cx="423684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65040" y="126684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РЕВЕРЗИБИЛНЕ (КОНАЧ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1" name="Object 2"/>
          <p:cNvGraphicFramePr/>
          <p:nvPr/>
        </p:nvGraphicFramePr>
        <p:xfrm>
          <a:off x="457200" y="2844720"/>
          <a:ext cx="3749760" cy="3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44720"/>
                    <a:ext cx="37497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7"/>
          <p:cNvSpPr/>
          <p:nvPr/>
        </p:nvSpPr>
        <p:spPr>
          <a:xfrm>
            <a:off x="1271520" y="318276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4"/>
          <p:cNvGrpSpPr/>
          <p:nvPr/>
        </p:nvGrpSpPr>
        <p:grpSpPr>
          <a:xfrm>
            <a:off x="304920" y="3943440"/>
            <a:ext cx="4236840" cy="1293840"/>
            <a:chOff x="304920" y="3943440"/>
            <a:chExt cx="4236840" cy="1293840"/>
          </a:xfrm>
        </p:grpSpPr>
        <p:pic>
          <p:nvPicPr>
            <p:cNvPr id="325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304920" y="3943440"/>
              <a:ext cx="423684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65040" y="4086360"/>
              <a:ext cx="411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ВЕРЗИБИЛНЕ (ПОВРАТ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Object 3"/>
          <p:cNvGraphicFramePr/>
          <p:nvPr/>
        </p:nvGraphicFramePr>
        <p:xfrm>
          <a:off x="457200" y="6067440"/>
          <a:ext cx="35654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067440"/>
                    <a:ext cx="35654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457200" y="5267160"/>
          <a:ext cx="393228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267160"/>
                    <a:ext cx="3932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ounded Rectangle 11"/>
          <p:cNvSpPr/>
          <p:nvPr/>
        </p:nvSpPr>
        <p:spPr>
          <a:xfrm>
            <a:off x="1782720" y="5068800"/>
            <a:ext cx="1281240" cy="838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349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9"/>
          <p:cNvSpPr/>
          <p:nvPr/>
        </p:nvSpPr>
        <p:spPr>
          <a:xfrm>
            <a:off x="6218280" y="1557360"/>
            <a:ext cx="1461960" cy="3650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ight Arrow 10"/>
          <p:cNvSpPr/>
          <p:nvPr/>
        </p:nvSpPr>
        <p:spPr>
          <a:xfrm>
            <a:off x="6218280" y="409572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ight Arrow 12"/>
          <p:cNvSpPr/>
          <p:nvPr/>
        </p:nvSpPr>
        <p:spPr>
          <a:xfrm rot="10800000">
            <a:off x="6217920" y="446256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495720" y="2128680"/>
            <a:ext cx="38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 +  В</a:t>
            </a:r>
            <a:r>
              <a:rPr b="1" lang="sr-R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  +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3"/>
          <p:cNvCxnSpPr/>
          <p:nvPr/>
        </p:nvCxnSpPr>
        <p:spPr>
          <a:xfrm>
            <a:off x="2063520" y="2420640"/>
            <a:ext cx="71964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61128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о дејству маса –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uldberg-Waage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79280" y="2011320"/>
            <a:ext cx="8785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стантној температури (T = const), брзина хемијске реакције је управо пропорционална производу концентрација реактана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0"/>
          <p:cNvGrpSpPr/>
          <p:nvPr/>
        </p:nvGrpSpPr>
        <p:grpSpPr>
          <a:xfrm>
            <a:off x="1831320" y="3541680"/>
            <a:ext cx="4725720" cy="581400"/>
            <a:chOff x="1831320" y="3541680"/>
            <a:chExt cx="4725720" cy="581400"/>
          </a:xfrm>
        </p:grpSpPr>
        <p:sp>
          <p:nvSpPr>
            <p:cNvPr id="340" name="Rectangle 16"/>
            <p:cNvSpPr/>
            <p:nvPr/>
          </p:nvSpPr>
          <p:spPr>
            <a:xfrm>
              <a:off x="183132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496656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595680" y="373716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TextBox 9"/>
          <p:cNvGrpSpPr/>
          <p:nvPr/>
        </p:nvGrpSpPr>
        <p:grpSpPr>
          <a:xfrm>
            <a:off x="3144960" y="4303800"/>
            <a:ext cx="2298600" cy="761760"/>
            <a:chOff x="3144960" y="4303800"/>
            <a:chExt cx="2298600" cy="761760"/>
          </a:xfrm>
        </p:grpSpPr>
        <p:pic>
          <p:nvPicPr>
            <p:cNvPr id="344" name="TextBox 9" descr=""/>
            <p:cNvPicPr/>
            <p:nvPr/>
          </p:nvPicPr>
          <p:blipFill>
            <a:blip r:embed="rId2"/>
            <a:stretch/>
          </p:blipFill>
          <p:spPr>
            <a:xfrm>
              <a:off x="3144960" y="4303800"/>
              <a:ext cx="22986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260880" y="4373640"/>
              <a:ext cx="212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0"/>
          <p:cNvSpPr/>
          <p:nvPr/>
        </p:nvSpPr>
        <p:spPr>
          <a:xfrm>
            <a:off x="3979080" y="33735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223920" y="5292720"/>
            <a:ext cx="8018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анта брзине реакц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] и [B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арне концентрације реактаната (mol/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хиометријски коефицијенти из хемијске реакци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0"/>
          <p:cNvGrpSpPr/>
          <p:nvPr/>
        </p:nvGrpSpPr>
        <p:grpSpPr>
          <a:xfrm>
            <a:off x="2130480" y="1557360"/>
            <a:ext cx="4802400" cy="581400"/>
            <a:chOff x="2130480" y="1557360"/>
            <a:chExt cx="4802400" cy="581400"/>
          </a:xfrm>
        </p:grpSpPr>
        <p:sp>
          <p:nvSpPr>
            <p:cNvPr id="349" name="Rectangle 16"/>
            <p:cNvSpPr/>
            <p:nvPr/>
          </p:nvSpPr>
          <p:spPr>
            <a:xfrm>
              <a:off x="2130480" y="1557360"/>
              <a:ext cx="172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5244480" y="1557360"/>
              <a:ext cx="168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4008240" y="175284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2"/>
          <p:cNvGrpSpPr/>
          <p:nvPr/>
        </p:nvGrpSpPr>
        <p:grpSpPr>
          <a:xfrm>
            <a:off x="2130480" y="2205000"/>
            <a:ext cx="4802400" cy="695160"/>
            <a:chOff x="2130480" y="2205000"/>
            <a:chExt cx="4802400" cy="695160"/>
          </a:xfrm>
        </p:grpSpPr>
        <p:grpSp>
          <p:nvGrpSpPr>
            <p:cNvPr id="353" name="Group 20"/>
            <p:cNvGrpSpPr/>
            <p:nvPr/>
          </p:nvGrpSpPr>
          <p:grpSpPr>
            <a:xfrm>
              <a:off x="2130480" y="2318760"/>
              <a:ext cx="4802400" cy="581400"/>
              <a:chOff x="2130480" y="2318760"/>
              <a:chExt cx="4802400" cy="581400"/>
            </a:xfrm>
          </p:grpSpPr>
          <p:sp>
            <p:nvSpPr>
              <p:cNvPr id="354" name="Rectangle 16"/>
              <p:cNvSpPr/>
              <p:nvPr/>
            </p:nvSpPr>
            <p:spPr>
              <a:xfrm>
                <a:off x="2130480" y="2318760"/>
                <a:ext cx="172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5244480" y="2318760"/>
                <a:ext cx="168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14"/>
            <p:cNvSpPr/>
            <p:nvPr/>
          </p:nvSpPr>
          <p:spPr>
            <a:xfrm>
              <a:off x="4305240" y="22050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3"/>
          <p:cNvGrpSpPr/>
          <p:nvPr/>
        </p:nvGrpSpPr>
        <p:grpSpPr>
          <a:xfrm>
            <a:off x="1716120" y="2895480"/>
            <a:ext cx="5788080" cy="1114560"/>
            <a:chOff x="1716120" y="2895480"/>
            <a:chExt cx="5788080" cy="1114560"/>
          </a:xfrm>
        </p:grpSpPr>
        <p:grpSp>
          <p:nvGrpSpPr>
            <p:cNvPr id="358" name="Group 20"/>
            <p:cNvGrpSpPr/>
            <p:nvPr/>
          </p:nvGrpSpPr>
          <p:grpSpPr>
            <a:xfrm>
              <a:off x="1716120" y="2941200"/>
              <a:ext cx="5788080" cy="1068840"/>
              <a:chOff x="1716120" y="2941200"/>
              <a:chExt cx="5788080" cy="1068840"/>
            </a:xfrm>
          </p:grpSpPr>
          <p:sp>
            <p:nvSpPr>
              <p:cNvPr id="359" name="Rectangle 16"/>
              <p:cNvSpPr/>
              <p:nvPr/>
            </p:nvSpPr>
            <p:spPr>
              <a:xfrm>
                <a:off x="2051280" y="3077280"/>
                <a:ext cx="18396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1716120" y="2941200"/>
                <a:ext cx="5788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D</a:t>
                </a:r>
                <a:r>
                  <a:rPr b="1" lang="sr-Latn-CS" sz="3200" spc="-1" strike="noStrike">
                    <a:solidFill>
                      <a:srgbClr val="072428"/>
                    </a:solidFill>
                    <a:latin typeface="Constantia"/>
                  </a:rPr>
                  <a:t>                  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61" name="Straight Arrow Connector 19"/>
            <p:cNvCxnSpPr/>
            <p:nvPr/>
          </p:nvCxnSpPr>
          <p:spPr>
            <a:xfrm flipV="1">
              <a:off x="4000680" y="3344040"/>
              <a:ext cx="1219680" cy="13320"/>
            </a:xfrm>
            <a:prstGeom prst="straightConnector1">
              <a:avLst/>
            </a:prstGeom>
            <a:ln w="38160">
              <a:solidFill>
                <a:srgbClr val="0d0d0d"/>
              </a:solidFill>
              <a:miter/>
              <a:tailEnd len="med" type="arrow" w="med"/>
            </a:ln>
          </p:spPr>
        </p:cxnSp>
        <p:sp>
          <p:nvSpPr>
            <p:cNvPr id="362" name="TextBox 20"/>
            <p:cNvSpPr/>
            <p:nvPr/>
          </p:nvSpPr>
          <p:spPr>
            <a:xfrm>
              <a:off x="4249800" y="289548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TextBox 24"/>
          <p:cNvGrpSpPr/>
          <p:nvPr/>
        </p:nvGrpSpPr>
        <p:grpSpPr>
          <a:xfrm>
            <a:off x="212760" y="4443480"/>
            <a:ext cx="2805120" cy="757080"/>
            <a:chOff x="212760" y="4443480"/>
            <a:chExt cx="2805120" cy="757080"/>
          </a:xfrm>
        </p:grpSpPr>
        <p:pic>
          <p:nvPicPr>
            <p:cNvPr id="364" name="TextBox 24" descr=""/>
            <p:cNvPicPr/>
            <p:nvPr/>
          </p:nvPicPr>
          <p:blipFill>
            <a:blip r:embed="rId2"/>
            <a:stretch/>
          </p:blipFill>
          <p:spPr>
            <a:xfrm>
              <a:off x="212760" y="4443480"/>
              <a:ext cx="2805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65040" y="4508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25"/>
          <p:cNvSpPr/>
          <p:nvPr/>
        </p:nvSpPr>
        <p:spPr>
          <a:xfrm>
            <a:off x="182520" y="375444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о закон о дејству м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TextBox 26"/>
          <p:cNvGrpSpPr/>
          <p:nvPr/>
        </p:nvGrpSpPr>
        <p:grpSpPr>
          <a:xfrm>
            <a:off x="212760" y="5016600"/>
            <a:ext cx="2805120" cy="761760"/>
            <a:chOff x="212760" y="5016600"/>
            <a:chExt cx="2805120" cy="761760"/>
          </a:xfrm>
        </p:grpSpPr>
        <p:pic>
          <p:nvPicPr>
            <p:cNvPr id="368" name="TextBox 26" descr=""/>
            <p:cNvPicPr/>
            <p:nvPr/>
          </p:nvPicPr>
          <p:blipFill>
            <a:blip r:embed="rId3"/>
            <a:stretch/>
          </p:blipFill>
          <p:spPr>
            <a:xfrm>
              <a:off x="212760" y="5016600"/>
              <a:ext cx="2805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65040" y="5084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C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TextBox 27"/>
          <p:cNvGrpSpPr/>
          <p:nvPr/>
        </p:nvGrpSpPr>
        <p:grpSpPr>
          <a:xfrm>
            <a:off x="291960" y="5578560"/>
            <a:ext cx="1586160" cy="865080"/>
            <a:chOff x="291960" y="5578560"/>
            <a:chExt cx="1586160" cy="865080"/>
          </a:xfrm>
        </p:grpSpPr>
        <p:pic>
          <p:nvPicPr>
            <p:cNvPr id="371" name="TextBox 27" descr=""/>
            <p:cNvPicPr/>
            <p:nvPr/>
          </p:nvPicPr>
          <p:blipFill>
            <a:blip r:embed="rId4"/>
            <a:stretch/>
          </p:blipFill>
          <p:spPr>
            <a:xfrm>
              <a:off x="291960" y="5578560"/>
              <a:ext cx="15861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5040" y="56610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ounded Rectangle 4"/>
          <p:cNvSpPr/>
          <p:nvPr/>
        </p:nvSpPr>
        <p:spPr>
          <a:xfrm>
            <a:off x="1495440" y="1012680"/>
            <a:ext cx="6229440" cy="38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у хомогеним систе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5"/>
          <a:stretch/>
        </p:blipFill>
        <p:spPr>
          <a:xfrm>
            <a:off x="4664160" y="3930480"/>
            <a:ext cx="4341600" cy="2738520"/>
          </a:xfrm>
          <a:prstGeom prst="rect">
            <a:avLst/>
          </a:prstGeom>
          <a:ln w="0">
            <a:noFill/>
          </a:ln>
        </p:spPr>
      </p:pic>
      <p:sp>
        <p:nvSpPr>
          <p:cNvPr id="375" name="Oval 29"/>
          <p:cNvSpPr/>
          <p:nvPr/>
        </p:nvSpPr>
        <p:spPr>
          <a:xfrm>
            <a:off x="7020000" y="4591080"/>
            <a:ext cx="1800000" cy="8222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8"/>
          <p:cNvCxnSpPr/>
          <p:nvPr/>
        </p:nvCxnSpPr>
        <p:spPr>
          <a:xfrm flipV="1">
            <a:off x="3990600" y="2637720"/>
            <a:ext cx="1220040" cy="133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TextBox 3"/>
          <p:cNvGrpSpPr/>
          <p:nvPr/>
        </p:nvGrpSpPr>
        <p:grpSpPr>
          <a:xfrm>
            <a:off x="2498760" y="1341360"/>
            <a:ext cx="3620880" cy="779400"/>
            <a:chOff x="2498760" y="1341360"/>
            <a:chExt cx="3620880" cy="779400"/>
          </a:xfrm>
        </p:grpSpPr>
        <p:pic>
          <p:nvPicPr>
            <p:cNvPr id="378" name="TextBox 3" descr=""/>
            <p:cNvPicPr/>
            <p:nvPr/>
          </p:nvPicPr>
          <p:blipFill>
            <a:blip r:embed="rId1"/>
            <a:stretch/>
          </p:blipFill>
          <p:spPr>
            <a:xfrm>
              <a:off x="2498760" y="1341360"/>
              <a:ext cx="3620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627280" y="1413000"/>
              <a:ext cx="3429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0" name="Object 3"/>
          <p:cNvGraphicFramePr/>
          <p:nvPr/>
        </p:nvGraphicFramePr>
        <p:xfrm>
          <a:off x="3087720" y="2382840"/>
          <a:ext cx="257328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7720" y="2382840"/>
                    <a:ext cx="2573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Oval 6"/>
          <p:cNvSpPr/>
          <p:nvPr/>
        </p:nvSpPr>
        <p:spPr>
          <a:xfrm>
            <a:off x="3059280" y="2133720"/>
            <a:ext cx="649080" cy="1601640"/>
          </a:xfrm>
          <a:prstGeom prst="ellipse">
            <a:avLst/>
          </a:prstGeom>
          <a:noFill/>
          <a:ln w="3816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11280" y="3429000"/>
            <a:ext cx="18000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9"/>
          <p:cNvCxnSpPr/>
          <p:nvPr/>
        </p:nvCxnSpPr>
        <p:spPr>
          <a:xfrm flipV="1">
            <a:off x="2050920" y="3239640"/>
            <a:ext cx="883440" cy="356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385" name="Object 4"/>
          <p:cNvGraphicFramePr/>
          <p:nvPr/>
        </p:nvGraphicFramePr>
        <p:xfrm>
          <a:off x="822240" y="4114800"/>
          <a:ext cx="345600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240" y="4114800"/>
                    <a:ext cx="34560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Box 11"/>
          <p:cNvSpPr/>
          <p:nvPr/>
        </p:nvSpPr>
        <p:spPr>
          <a:xfrm>
            <a:off x="4932360" y="4206960"/>
            <a:ext cx="350532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авнотеж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74680" y="5578560"/>
            <a:ext cx="6191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274680" y="6126120"/>
            <a:ext cx="82915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 зависи од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ператур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121360" y="2743200"/>
            <a:ext cx="4022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 1, производи су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5121360" y="5486400"/>
            <a:ext cx="4022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K &lt;&lt; 1, реактанти су         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58436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TextBox 12"/>
          <p:cNvGrpSpPr/>
          <p:nvPr/>
        </p:nvGrpSpPr>
        <p:grpSpPr>
          <a:xfrm>
            <a:off x="1463760" y="2614680"/>
            <a:ext cx="2163600" cy="1189080"/>
            <a:chOff x="1463760" y="2614680"/>
            <a:chExt cx="2163600" cy="1189080"/>
          </a:xfrm>
        </p:grpSpPr>
        <p:pic>
          <p:nvPicPr>
            <p:cNvPr id="394" name="TextBox 12" descr=""/>
            <p:cNvPicPr/>
            <p:nvPr/>
          </p:nvPicPr>
          <p:blipFill>
            <a:blip r:embed="rId1"/>
            <a:stretch/>
          </p:blipFill>
          <p:spPr>
            <a:xfrm>
              <a:off x="1463760" y="2614680"/>
              <a:ext cx="216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736640" y="2743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gt;&gt;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TextBox 13"/>
          <p:cNvGrpSpPr/>
          <p:nvPr/>
        </p:nvGrpSpPr>
        <p:grpSpPr>
          <a:xfrm>
            <a:off x="1463760" y="5357880"/>
            <a:ext cx="2346120" cy="1189080"/>
            <a:chOff x="1463760" y="5357880"/>
            <a:chExt cx="2346120" cy="1189080"/>
          </a:xfrm>
        </p:grpSpPr>
        <p:pic>
          <p:nvPicPr>
            <p:cNvPr id="397" name="TextBox 13" descr=""/>
            <p:cNvPicPr/>
            <p:nvPr/>
          </p:nvPicPr>
          <p:blipFill>
            <a:blip r:embed="rId2"/>
            <a:stretch/>
          </p:blipFill>
          <p:spPr>
            <a:xfrm>
              <a:off x="1463760" y="5357880"/>
              <a:ext cx="2346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736640" y="5486400"/>
              <a:ext cx="201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lt;&lt;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9" name="Object 13"/>
          <p:cNvGraphicFramePr/>
          <p:nvPr/>
        </p:nvGraphicFramePr>
        <p:xfrm>
          <a:off x="289080" y="1254240"/>
          <a:ext cx="46432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1254240"/>
                    <a:ext cx="46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4"/>
          <p:cNvGraphicFramePr/>
          <p:nvPr/>
        </p:nvGraphicFramePr>
        <p:xfrm>
          <a:off x="324000" y="4005360"/>
          <a:ext cx="473688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005360"/>
                    <a:ext cx="47368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10"/>
          <p:cNvSpPr/>
          <p:nvPr/>
        </p:nvSpPr>
        <p:spPr>
          <a:xfrm>
            <a:off x="395280" y="20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3348000" y="20210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468360" y="47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3419640" y="48290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611280" y="12682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Фактори од којих зависи 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74680" y="2637000"/>
            <a:ext cx="869004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концентрације реактаната или 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притиска (ако су реактант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совитом агрегатном ст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1817640" cy="193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330880" y="30812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i Le Chatel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0-19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411280" y="1176480"/>
            <a:ext cx="4176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Le Chatelie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-ов принц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Rectangle 9"/>
          <p:cNvGrpSpPr/>
          <p:nvPr/>
        </p:nvGrpSpPr>
        <p:grpSpPr>
          <a:xfrm>
            <a:off x="23760" y="4773600"/>
            <a:ext cx="9139320" cy="1548000"/>
            <a:chOff x="23760" y="4773600"/>
            <a:chExt cx="9139320" cy="1548000"/>
          </a:xfrm>
        </p:grpSpPr>
        <p:pic>
          <p:nvPicPr>
            <p:cNvPr id="413" name="Rectangle 9" descr=""/>
            <p:cNvPicPr/>
            <p:nvPr/>
          </p:nvPicPr>
          <p:blipFill>
            <a:blip r:embed="rId2"/>
            <a:stretch/>
          </p:blipFill>
          <p:spPr>
            <a:xfrm>
              <a:off x="23760" y="4773600"/>
              <a:ext cx="91393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2520" y="4846680"/>
              <a:ext cx="8820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ко се систему који се налази у равнотежи промени неки од спољашњих услова, систем ће се супроставити промени да би успоставио ново равнотежно стањ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7"/>
          <p:cNvSpPr/>
          <p:nvPr/>
        </p:nvSpPr>
        <p:spPr>
          <a:xfrm>
            <a:off x="182520" y="4114800"/>
            <a:ext cx="388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Times New Roman"/>
              </a:rPr>
              <a:t>1884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Le Chatel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5"/>
          <p:cNvGrpSpPr/>
          <p:nvPr/>
        </p:nvGrpSpPr>
        <p:grpSpPr>
          <a:xfrm>
            <a:off x="122400" y="1616040"/>
            <a:ext cx="6168960" cy="865080"/>
            <a:chOff x="122400" y="1616040"/>
            <a:chExt cx="6168960" cy="865080"/>
          </a:xfrm>
        </p:grpSpPr>
        <p:pic>
          <p:nvPicPr>
            <p:cNvPr id="417" name="Rectangle 5" descr=""/>
            <p:cNvPicPr/>
            <p:nvPr/>
          </p:nvPicPr>
          <p:blipFill>
            <a:blip r:embed="rId1"/>
            <a:stretch/>
          </p:blipFill>
          <p:spPr>
            <a:xfrm>
              <a:off x="122400" y="1616040"/>
              <a:ext cx="61689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06000" y="1695600"/>
              <a:ext cx="58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мера се равнотежа, </a:t>
              </a: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се не мењ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1979640" y="2432160"/>
                <a:ext cx="46483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7"/>
          <p:cNvSpPr/>
          <p:nvPr/>
        </p:nvSpPr>
        <p:spPr>
          <a:xfrm>
            <a:off x="917640" y="32590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914400" y="378936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>
            <a:off x="2011320" y="3500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2011320" y="4076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917640" y="4365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 flipH="1">
            <a:off x="2010960" y="4651200"/>
            <a:ext cx="1320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917640" y="4941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 flipH="1" flipV="1">
            <a:off x="2010960" y="5224320"/>
            <a:ext cx="13352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684360" y="55166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84360" y="6140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Text Box 19"/>
          <p:cNvGrpSpPr/>
          <p:nvPr/>
        </p:nvGrpSpPr>
        <p:grpSpPr>
          <a:xfrm>
            <a:off x="3846600" y="3157560"/>
            <a:ext cx="5089320" cy="1859040"/>
            <a:chOff x="3846600" y="3157560"/>
            <a:chExt cx="5089320" cy="1859040"/>
          </a:xfrm>
        </p:grpSpPr>
        <p:pic>
          <p:nvPicPr>
            <p:cNvPr id="431" name="Text Box 19" descr=""/>
            <p:cNvPicPr/>
            <p:nvPr/>
          </p:nvPicPr>
          <p:blipFill>
            <a:blip r:embed="rId2"/>
            <a:stretch/>
          </p:blipFill>
          <p:spPr>
            <a:xfrm>
              <a:off x="3846600" y="3157560"/>
              <a:ext cx="5089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995640" y="3227400"/>
              <a:ext cx="47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дес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већањем концентрације реактаната или смање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Text Box 20"/>
          <p:cNvGrpSpPr/>
          <p:nvPr/>
        </p:nvGrpSpPr>
        <p:grpSpPr>
          <a:xfrm>
            <a:off x="3852720" y="4962600"/>
            <a:ext cx="5046840" cy="1987920"/>
            <a:chOff x="3852720" y="4962600"/>
            <a:chExt cx="5046840" cy="1987920"/>
          </a:xfrm>
        </p:grpSpPr>
        <p:pic>
          <p:nvPicPr>
            <p:cNvPr id="434" name="Text Box 20" descr=""/>
            <p:cNvPicPr/>
            <p:nvPr/>
          </p:nvPicPr>
          <p:blipFill>
            <a:blip r:embed="rId3"/>
            <a:stretch/>
          </p:blipFill>
          <p:spPr>
            <a:xfrm>
              <a:off x="3852720" y="4962600"/>
              <a:ext cx="50468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003560" y="5027760"/>
              <a:ext cx="4745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ле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мањењем концентрације реактаната или повећа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Line 14"/>
          <p:cNvSpPr/>
          <p:nvPr/>
        </p:nvSpPr>
        <p:spPr>
          <a:xfrm flipH="1" flipV="1">
            <a:off x="2010960" y="5800320"/>
            <a:ext cx="13352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2011320" y="6381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2622600" y="1027080"/>
            <a:ext cx="42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мена концен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2639520" y="1052640"/>
            <a:ext cx="38095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ена темпера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Rectangle 5"/>
          <p:cNvGrpSpPr/>
          <p:nvPr/>
        </p:nvGrpSpPr>
        <p:grpSpPr>
          <a:xfrm>
            <a:off x="115920" y="1847880"/>
            <a:ext cx="3870360" cy="779400"/>
            <a:chOff x="115920" y="1847880"/>
            <a:chExt cx="3870360" cy="779400"/>
          </a:xfrm>
        </p:grpSpPr>
        <p:pic>
          <p:nvPicPr>
            <p:cNvPr id="441" name="Rectangle 5" descr=""/>
            <p:cNvPicPr/>
            <p:nvPr/>
          </p:nvPicPr>
          <p:blipFill>
            <a:blip r:embed="rId1"/>
            <a:stretch/>
          </p:blipFill>
          <p:spPr>
            <a:xfrm>
              <a:off x="115920" y="1847880"/>
              <a:ext cx="38703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88720" y="1916280"/>
              <a:ext cx="356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1554120" y="2708280"/>
                <a:ext cx="50547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Text Box 7"/>
          <p:cNvSpPr/>
          <p:nvPr/>
        </p:nvSpPr>
        <p:spPr>
          <a:xfrm>
            <a:off x="6932520" y="273528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25520" y="364644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њем  Т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лев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 flipH="1">
            <a:off x="1188720" y="3887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25520" y="4319640"/>
            <a:ext cx="84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Т 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десн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1189080" y="4535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"/>
          <p:cNvSpPr/>
          <p:nvPr/>
        </p:nvSpPr>
        <p:spPr>
          <a:xfrm>
            <a:off x="3429000" y="56134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4"/>
          <p:cNvGrpSpPr/>
          <p:nvPr/>
        </p:nvGrpSpPr>
        <p:grpSpPr>
          <a:xfrm>
            <a:off x="3571920" y="4943520"/>
            <a:ext cx="2085840" cy="780840"/>
            <a:chOff x="3571920" y="4943520"/>
            <a:chExt cx="2085840" cy="780840"/>
          </a:xfrm>
        </p:grpSpPr>
        <p:pic>
          <p:nvPicPr>
            <p:cNvPr id="451" name="Text Box 14" descr=""/>
            <p:cNvPicPr/>
            <p:nvPr/>
          </p:nvPicPr>
          <p:blipFill>
            <a:blip r:embed="rId2"/>
            <a:stretch/>
          </p:blipFill>
          <p:spPr>
            <a:xfrm>
              <a:off x="3571920" y="4943520"/>
              <a:ext cx="2085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657600" y="501336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15"/>
          <p:cNvSpPr/>
          <p:nvPr/>
        </p:nvSpPr>
        <p:spPr>
          <a:xfrm flipH="1">
            <a:off x="3429000" y="5842080"/>
            <a:ext cx="2449440" cy="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Text Box 16"/>
          <p:cNvGrpSpPr/>
          <p:nvPr/>
        </p:nvGrpSpPr>
        <p:grpSpPr>
          <a:xfrm>
            <a:off x="3541680" y="5907240"/>
            <a:ext cx="2152800" cy="779400"/>
            <a:chOff x="3541680" y="5907240"/>
            <a:chExt cx="2152800" cy="779400"/>
          </a:xfrm>
        </p:grpSpPr>
        <p:pic>
          <p:nvPicPr>
            <p:cNvPr id="455" name="Text Box 16" descr=""/>
            <p:cNvPicPr/>
            <p:nvPr/>
          </p:nvPicPr>
          <p:blipFill>
            <a:blip r:embed="rId3"/>
            <a:stretch/>
          </p:blipFill>
          <p:spPr>
            <a:xfrm>
              <a:off x="3541680" y="5907240"/>
              <a:ext cx="21528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657600" y="597708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нд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4"/>
          <p:cNvGrpSpPr/>
          <p:nvPr/>
        </p:nvGrpSpPr>
        <p:grpSpPr>
          <a:xfrm>
            <a:off x="115920" y="1487520"/>
            <a:ext cx="3943440" cy="779400"/>
            <a:chOff x="115920" y="1487520"/>
            <a:chExt cx="3943440" cy="779400"/>
          </a:xfrm>
        </p:grpSpPr>
        <p:pic>
          <p:nvPicPr>
            <p:cNvPr id="458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1487520"/>
              <a:ext cx="39434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76120" y="155736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Енд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2100240" y="263700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7"/>
          <p:cNvSpPr/>
          <p:nvPr/>
        </p:nvSpPr>
        <p:spPr>
          <a:xfrm>
            <a:off x="6372360" y="2703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 flipH="1">
            <a:off x="1258560" y="50594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93560" y="4799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ање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ле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1258920" y="4195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468360" y="39798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98760"/>
                <a:tab algn="l" pos="205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ћа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дес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182520" y="98100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налази се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чунати процентну концентрацију раств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%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79280" y="3840120"/>
            <a:ext cx="86076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растворено 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 NaCl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ну концентрацију раствор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 g + 25 g = 3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 g NaCl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X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,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,6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%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3"/>
          <p:cNvSpPr/>
          <p:nvPr/>
        </p:nvSpPr>
        <p:spPr>
          <a:xfrm>
            <a:off x="5394240" y="3263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Notched Right Arrow 4"/>
          <p:cNvSpPr/>
          <p:nvPr/>
        </p:nvSpPr>
        <p:spPr>
          <a:xfrm>
            <a:off x="4621320" y="6049800"/>
            <a:ext cx="365040" cy="136800"/>
          </a:xfrm>
          <a:custGeom>
            <a:avLst/>
            <a:gdLst>
              <a:gd name="textAreaLeft" fmla="*/ 33840 w 365040"/>
              <a:gd name="textAreaRight" fmla="*/ 331200 w 3650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2" y="5400"/>
                </a:ln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17562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2826720" y="1125360"/>
            <a:ext cx="3315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омена прит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1835280" y="1981080"/>
                <a:ext cx="5054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Text Box 7"/>
          <p:cNvSpPr/>
          <p:nvPr/>
        </p:nvSpPr>
        <p:spPr>
          <a:xfrm>
            <a:off x="971640" y="4057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Straight Arrow Connector 7"/>
          <p:cNvCxnSpPr/>
          <p:nvPr/>
        </p:nvCxnSpPr>
        <p:spPr>
          <a:xfrm>
            <a:off x="1646280" y="436248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0" name="Text Box 7"/>
          <p:cNvSpPr/>
          <p:nvPr/>
        </p:nvSpPr>
        <p:spPr>
          <a:xfrm>
            <a:off x="955800" y="535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Straight Arrow Connector 9"/>
          <p:cNvCxnSpPr/>
          <p:nvPr/>
        </p:nvCxnSpPr>
        <p:spPr>
          <a:xfrm flipH="1" flipV="1">
            <a:off x="1641240" y="55814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72" name="TextBox 11"/>
          <p:cNvGrpSpPr/>
          <p:nvPr/>
        </p:nvGrpSpPr>
        <p:grpSpPr>
          <a:xfrm>
            <a:off x="2682720" y="3749760"/>
            <a:ext cx="6205680" cy="1492200"/>
            <a:chOff x="2682720" y="3749760"/>
            <a:chExt cx="6205680" cy="1492200"/>
          </a:xfrm>
        </p:grpSpPr>
        <p:pic>
          <p:nvPicPr>
            <p:cNvPr id="473" name="TextBox 11" descr=""/>
            <p:cNvPicPr/>
            <p:nvPr/>
          </p:nvPicPr>
          <p:blipFill>
            <a:blip r:embed="rId1"/>
            <a:stretch/>
          </p:blipFill>
          <p:spPr>
            <a:xfrm>
              <a:off x="2682720" y="3749760"/>
              <a:ext cx="62056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835360" y="3816360"/>
              <a:ext cx="589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ећа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ањ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мањ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TextBox 12"/>
          <p:cNvGrpSpPr/>
          <p:nvPr/>
        </p:nvGrpSpPr>
        <p:grpSpPr>
          <a:xfrm>
            <a:off x="2682720" y="5114880"/>
            <a:ext cx="6212160" cy="1494000"/>
            <a:chOff x="2682720" y="5114880"/>
            <a:chExt cx="6212160" cy="1494000"/>
          </a:xfrm>
        </p:grpSpPr>
        <p:pic>
          <p:nvPicPr>
            <p:cNvPr id="476" name="TextBox 12" descr=""/>
            <p:cNvPicPr/>
            <p:nvPr/>
          </p:nvPicPr>
          <p:blipFill>
            <a:blip r:embed="rId2"/>
            <a:stretch/>
          </p:blipFill>
          <p:spPr>
            <a:xfrm>
              <a:off x="2682720" y="5114880"/>
              <a:ext cx="62121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835360" y="518472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ање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ећ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већ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ight Brace 13"/>
          <p:cNvSpPr/>
          <p:nvPr/>
        </p:nvSpPr>
        <p:spPr>
          <a:xfrm rot="5400000">
            <a:off x="2939400" y="140940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514600"/>
              <a:gd name="textAreaBottom" fmla="*/ 2502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Brace 14"/>
          <p:cNvSpPr/>
          <p:nvPr/>
        </p:nvSpPr>
        <p:spPr>
          <a:xfrm rot="5400000">
            <a:off x="5607000" y="194292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447920"/>
              <a:gd name="textAreaBottom" fmla="*/ 1436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TextBox 15"/>
          <p:cNvGrpSpPr/>
          <p:nvPr/>
        </p:nvGrpSpPr>
        <p:grpSpPr>
          <a:xfrm>
            <a:off x="2670120" y="2889360"/>
            <a:ext cx="981000" cy="865080"/>
            <a:chOff x="2670120" y="2889360"/>
            <a:chExt cx="981000" cy="865080"/>
          </a:xfrm>
        </p:grpSpPr>
        <p:pic>
          <p:nvPicPr>
            <p:cNvPr id="481" name="TextBox 15" descr=""/>
            <p:cNvPicPr/>
            <p:nvPr/>
          </p:nvPicPr>
          <p:blipFill>
            <a:blip r:embed="rId3"/>
            <a:stretch/>
          </p:blipFill>
          <p:spPr>
            <a:xfrm>
              <a:off x="2670120" y="2889360"/>
              <a:ext cx="981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743200" y="2971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TextBox 16"/>
          <p:cNvGrpSpPr/>
          <p:nvPr/>
        </p:nvGrpSpPr>
        <p:grpSpPr>
          <a:xfrm>
            <a:off x="5321160" y="2889360"/>
            <a:ext cx="982800" cy="865080"/>
            <a:chOff x="5321160" y="2889360"/>
            <a:chExt cx="982800" cy="865080"/>
          </a:xfrm>
        </p:grpSpPr>
        <p:pic>
          <p:nvPicPr>
            <p:cNvPr id="484" name="TextBox 16" descr=""/>
            <p:cNvPicPr/>
            <p:nvPr/>
          </p:nvPicPr>
          <p:blipFill>
            <a:blip r:embed="rId4"/>
            <a:stretch/>
          </p:blipFill>
          <p:spPr>
            <a:xfrm>
              <a:off x="5321160" y="2889360"/>
              <a:ext cx="982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394240" y="29718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5970600" y="42642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293920" y="170496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Right Brace 3"/>
          <p:cNvSpPr/>
          <p:nvPr/>
        </p:nvSpPr>
        <p:spPr>
          <a:xfrm rot="5400000">
            <a:off x="2941200" y="15141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057400"/>
              <a:gd name="textAreaBottom" fmla="*/ 20455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ight Brace 4"/>
          <p:cNvSpPr/>
          <p:nvPr/>
        </p:nvSpPr>
        <p:spPr>
          <a:xfrm rot="5400000">
            <a:off x="5207040" y="1943280"/>
            <a:ext cx="457200" cy="12952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295280"/>
              <a:gd name="textAreaBottom" fmla="*/ 1283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16200" y="10800"/>
                  <a:pt x="21600" y="10800"/>
                </a:cubicBezTo>
                <a:cubicBezTo>
                  <a:pt x="162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TextBox 5"/>
          <p:cNvGrpSpPr/>
          <p:nvPr/>
        </p:nvGrpSpPr>
        <p:grpSpPr>
          <a:xfrm>
            <a:off x="2670120" y="2840040"/>
            <a:ext cx="981000" cy="866880"/>
            <a:chOff x="2670120" y="2840040"/>
            <a:chExt cx="981000" cy="866880"/>
          </a:xfrm>
        </p:grpSpPr>
        <p:pic>
          <p:nvPicPr>
            <p:cNvPr id="491" name="TextBox 5" descr=""/>
            <p:cNvPicPr/>
            <p:nvPr/>
          </p:nvPicPr>
          <p:blipFill>
            <a:blip r:embed="rId1"/>
            <a:stretch/>
          </p:blipFill>
          <p:spPr>
            <a:xfrm>
              <a:off x="2670120" y="2840040"/>
              <a:ext cx="981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43200" y="29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TextBox 6"/>
          <p:cNvGrpSpPr/>
          <p:nvPr/>
        </p:nvGrpSpPr>
        <p:grpSpPr>
          <a:xfrm>
            <a:off x="4943520" y="2840040"/>
            <a:ext cx="981000" cy="873000"/>
            <a:chOff x="4943520" y="2840040"/>
            <a:chExt cx="981000" cy="873000"/>
          </a:xfrm>
        </p:grpSpPr>
        <p:pic>
          <p:nvPicPr>
            <p:cNvPr id="494" name="TextBox 6" descr=""/>
            <p:cNvPicPr/>
            <p:nvPr/>
          </p:nvPicPr>
          <p:blipFill>
            <a:blip r:embed="rId2"/>
            <a:stretch/>
          </p:blipFill>
          <p:spPr>
            <a:xfrm>
              <a:off x="4943520" y="2840040"/>
              <a:ext cx="98100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016600" y="2925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TextBox 7"/>
          <p:cNvGrpSpPr/>
          <p:nvPr/>
        </p:nvGrpSpPr>
        <p:grpSpPr>
          <a:xfrm>
            <a:off x="298440" y="4290840"/>
            <a:ext cx="7705800" cy="787680"/>
            <a:chOff x="298440" y="4290840"/>
            <a:chExt cx="7705800" cy="787680"/>
          </a:xfrm>
        </p:grpSpPr>
        <p:pic>
          <p:nvPicPr>
            <p:cNvPr id="497" name="TextBox 7" descr=""/>
            <p:cNvPicPr/>
            <p:nvPr/>
          </p:nvPicPr>
          <p:blipFill>
            <a:blip r:embed="rId3"/>
            <a:stretch/>
          </p:blipFill>
          <p:spPr>
            <a:xfrm>
              <a:off x="298440" y="4290840"/>
              <a:ext cx="770580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457200" y="4365720"/>
              <a:ext cx="7488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мена притиска не утиче на пометање равнотеж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2484360" y="1166760"/>
            <a:ext cx="41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182520" y="1989000"/>
            <a:ext cx="842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катализатора условљава брже успостављање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внотеж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(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се не ме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TextBox 4"/>
          <p:cNvGrpSpPr/>
          <p:nvPr/>
        </p:nvGrpSpPr>
        <p:grpSpPr>
          <a:xfrm>
            <a:off x="4419720" y="4224240"/>
            <a:ext cx="4627440" cy="1494000"/>
            <a:chOff x="4419720" y="4224240"/>
            <a:chExt cx="4627440" cy="1494000"/>
          </a:xfrm>
        </p:grpSpPr>
        <p:pic>
          <p:nvPicPr>
            <p:cNvPr id="502" name="TextBox 4" descr=""/>
            <p:cNvPicPr/>
            <p:nvPr/>
          </p:nvPicPr>
          <p:blipFill>
            <a:blip r:embed="rId1"/>
            <a:stretch/>
          </p:blipFill>
          <p:spPr>
            <a:xfrm>
              <a:off x="4419720" y="4224240"/>
              <a:ext cx="462744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572000" y="4292640"/>
              <a:ext cx="43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атализатори убрзавају и директну и повратну хемијску реакциј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6" descr="C:\Users\Maca\Desktop\kataliz.png"/>
          <p:cNvPicPr/>
          <p:nvPr/>
        </p:nvPicPr>
        <p:blipFill>
          <a:blip r:embed="rId2"/>
          <a:stretch/>
        </p:blipFill>
        <p:spPr>
          <a:xfrm>
            <a:off x="539640" y="3429000"/>
            <a:ext cx="3705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ounded Rectangle 4"/>
          <p:cNvSpPr/>
          <p:nvPr/>
        </p:nvSpPr>
        <p:spPr>
          <a:xfrm>
            <a:off x="1547640" y="1190520"/>
            <a:ext cx="6218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 у  хетерогеном 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6"/>
          <p:cNvGrpSpPr/>
          <p:nvPr/>
        </p:nvGrpSpPr>
        <p:grpSpPr>
          <a:xfrm>
            <a:off x="1455840" y="3432240"/>
            <a:ext cx="2971800" cy="1179360"/>
            <a:chOff x="1455840" y="3432240"/>
            <a:chExt cx="2971800" cy="1179360"/>
          </a:xfrm>
        </p:grpSpPr>
        <p:sp>
          <p:nvSpPr>
            <p:cNvPr id="507" name="Text Box 4"/>
            <p:cNvSpPr/>
            <p:nvPr/>
          </p:nvSpPr>
          <p:spPr>
            <a:xfrm>
              <a:off x="1455840" y="3584520"/>
              <a:ext cx="29718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O] [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 ––––––––––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1505160" y="3476520"/>
              <a:ext cx="2770200" cy="1135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7"/>
            <p:cNvSpPr/>
            <p:nvPr/>
          </p:nvSpPr>
          <p:spPr>
            <a:xfrm flipV="1">
              <a:off x="1505160" y="3432240"/>
              <a:ext cx="2770200" cy="106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5"/>
          <p:cNvSpPr/>
          <p:nvPr/>
        </p:nvSpPr>
        <p:spPr>
          <a:xfrm>
            <a:off x="5208480" y="3584520"/>
            <a:ext cx="221004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= [CO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441600" y="5178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Straight Arrow Connector 10"/>
          <p:cNvCxnSpPr/>
          <p:nvPr/>
        </p:nvCxnSpPr>
        <p:spPr>
          <a:xfrm flipH="1" flipV="1">
            <a:off x="4206600" y="54068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3" name="Text Box 7"/>
          <p:cNvSpPr/>
          <p:nvPr/>
        </p:nvSpPr>
        <p:spPr>
          <a:xfrm>
            <a:off x="3441600" y="5864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Straight Arrow Connector 12"/>
          <p:cNvCxnSpPr/>
          <p:nvPr/>
        </p:nvCxnSpPr>
        <p:spPr>
          <a:xfrm flipV="1">
            <a:off x="4206960" y="60926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15" name="Object 15"/>
          <p:cNvGraphicFramePr/>
          <p:nvPr/>
        </p:nvGraphicFramePr>
        <p:xfrm>
          <a:off x="1506600" y="2390760"/>
          <a:ext cx="613080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2390760"/>
                    <a:ext cx="6130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258920" y="12272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а (привидна) константа равнот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3"/>
          <p:cNvGraphicFramePr/>
          <p:nvPr/>
        </p:nvGraphicFramePr>
        <p:xfrm>
          <a:off x="2698920" y="2421000"/>
          <a:ext cx="3241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421000"/>
                    <a:ext cx="3241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4"/>
          <p:cNvGraphicFramePr/>
          <p:nvPr/>
        </p:nvGraphicFramePr>
        <p:xfrm>
          <a:off x="3132000" y="3108240"/>
          <a:ext cx="228600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108240"/>
                    <a:ext cx="22860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TextBox 9"/>
          <p:cNvSpPr/>
          <p:nvPr/>
        </p:nvSpPr>
        <p:spPr>
          <a:xfrm>
            <a:off x="179280" y="4749840"/>
            <a:ext cx="889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у раствору присутне супстанце које на било који начин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реагују са супстанцама A, B, C или D смањиваће се њихова концентрација у раствору, што ће утицати на положај равнотеже 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хемијске реакц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4920" y="107640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не концентрације се у том случају могу изразити укупним концентрацијама помноженим одговарајућим коефицијентима мањим од једин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108000" y="4581360"/>
            <a:ext cx="8964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на (привидна) константа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купна концентрација супстанце А у свим њеним облицима 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раствору (изузев оног који је реаговао са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ицијент који зависи од различитих фактора (конц.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или других супстанци са којима А ступа у споредне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914400" y="2349360"/>
            <a:ext cx="55054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82520" y="1773360"/>
            <a:ext cx="8640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а (привидна) константа равноте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силе раств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и концентрације супстанци присутних у раствору, 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је ступају у споредне реакције са главним реактантима и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изводима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79280" y="1413000"/>
            <a:ext cx="86407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ко грам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лико грама воде је потребно за припремање 1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,5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–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,5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4680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концентрација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82520" y="1643040"/>
            <a:ext cx="60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чина растворене супстанце -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мина раствора -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42920" y="5572080"/>
            <a:ext cx="871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молова растворене супстанце у 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34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65040" y="1371600"/>
            <a:ext cx="3676680" cy="1373760"/>
          </a:xfrm>
          <a:prstGeom prst="rect">
            <a:avLst/>
          </a:prstGeom>
          <a:noFill/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 =  1000 m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1000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55520" y="2924280"/>
            <a:ext cx="9010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рачунати моларну концентрацију 2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g NaCl =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 g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 = 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34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34 M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95480" cy="2276640"/>
          </a:xfrm>
          <a:prstGeom prst="rect">
            <a:avLst/>
          </a:prstGeom>
          <a:ln w="0">
            <a:noFill/>
          </a:ln>
        </p:spPr>
      </p:pic>
      <p:sp>
        <p:nvSpPr>
          <p:cNvPr id="224" name="Notched Right Arrow 5"/>
          <p:cNvSpPr/>
          <p:nvPr/>
        </p:nvSpPr>
        <p:spPr>
          <a:xfrm>
            <a:off x="4205160" y="617220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82520" y="1557360"/>
            <a:ext cx="9001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рачунати моларну концентрацију 96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6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 M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Notched Right Arrow 2"/>
          <p:cNvSpPr/>
          <p:nvPr/>
        </p:nvSpPr>
        <p:spPr>
          <a:xfrm>
            <a:off x="4809960" y="5468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43280" y="1108080"/>
            <a:ext cx="44654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i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γ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274680" y="2193840"/>
            <a:ext cx="8717040" cy="2013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182520" y="4937040"/>
            <a:ext cx="896148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маса растворене супстанце и </a:t>
            </a:r>
            <a:r>
              <a:rPr b="1" lang="sr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запремине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Jelena Stepanović</cp:lastModifiedBy>
  <dcterms:modified xsi:type="dcterms:W3CDTF">2017-09-05T13:41:23Z</dcterms:modified>
  <cp:revision>443</cp:revision>
  <dc:subject/>
  <dc:title>Slide 1</dc:title>
</cp:coreProperties>
</file>